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9925050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925200" cy="66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5626080" y="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3295800" y="500040"/>
            <a:ext cx="3335040" cy="25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1324080" y="3166560"/>
            <a:ext cx="727848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633564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5626080" y="633564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F4E9-BDE6-4FF3-A340-0431101E75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3295800" y="500040"/>
            <a:ext cx="3335040" cy="2502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324080" y="3166560"/>
            <a:ext cx="727848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5626080" y="633564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61A1-8236-4BD3-88A4-0243CD87A0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633564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626080" y="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3297240" y="500040"/>
            <a:ext cx="3335400" cy="2502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93600" y="3166560"/>
            <a:ext cx="7939440" cy="30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5626080" y="633564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8F26-E38C-4FDF-9A00-049F325CAA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633564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626080" y="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3297240" y="500040"/>
            <a:ext cx="3335400" cy="2502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93600" y="3166560"/>
            <a:ext cx="7939440" cy="30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5626080" y="633564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FE52-73A0-4AAC-887F-7789999FB4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633564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626080" y="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3297240" y="500040"/>
            <a:ext cx="3335400" cy="2502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93600" y="3166560"/>
            <a:ext cx="7939440" cy="30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5626080" y="633564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B91E-5C80-46B9-9FA3-F27381C103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633564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626080" y="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3297240" y="500040"/>
            <a:ext cx="3335400" cy="2502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93600" y="3166560"/>
            <a:ext cx="7939440" cy="30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626080" y="633564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690B-4646-4899-BE90-89A80220DF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633564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626080" y="0"/>
            <a:ext cx="43005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3297240" y="500040"/>
            <a:ext cx="3335400" cy="2502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93600" y="3166560"/>
            <a:ext cx="7939440" cy="30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3297240" y="500040"/>
            <a:ext cx="3335400" cy="2502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324080" y="3166560"/>
            <a:ext cx="727848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about why disseminate and have media coverage in the first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ctual obli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more school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95800" y="500040"/>
            <a:ext cx="3335040" cy="2502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324080" y="3166560"/>
            <a:ext cx="727848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66"/>
                </a:solidFill>
                <a:latin typeface="Arial"/>
              </a:rPr>
              <a:t>New project</a:t>
            </a:r>
            <a:r>
              <a:rPr b="0" lang="en-US" sz="12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9966"/>
                </a:solidFill>
                <a:latin typeface="Arial"/>
              </a:rPr>
              <a:t>applicants</a:t>
            </a:r>
            <a:r>
              <a:rPr b="1" lang="en-US" sz="12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an check on existing material and avoid re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66"/>
                </a:solidFill>
                <a:latin typeface="Arial"/>
              </a:rPr>
              <a:t>Existing Applicants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input of data helps reflect &amp; self-evaluate even in relation with other European re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66"/>
                </a:solidFill>
                <a:latin typeface="Arial"/>
              </a:rPr>
              <a:t>Teachers</a:t>
            </a:r>
            <a:r>
              <a:rPr b="1" lang="en-US" sz="12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an gain direct access to materials developed within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66"/>
                </a:solidFill>
                <a:latin typeface="Arial"/>
              </a:rPr>
              <a:t>Decision makers</a:t>
            </a:r>
            <a:r>
              <a:rPr b="1" lang="en-US" sz="12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an trace progress made by schools &amp; adult education organis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3295800" y="500040"/>
            <a:ext cx="3335040" cy="2502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1324080" y="3166560"/>
            <a:ext cx="727848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he newsletter is the missionary arm of the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702960"/>
            <a:ext cx="81532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70296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1680" y="370296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262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1752480"/>
            <a:ext cx="262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920" y="1752480"/>
            <a:ext cx="262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702960"/>
            <a:ext cx="262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3702960"/>
            <a:ext cx="262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920" y="3702960"/>
            <a:ext cx="262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520" y="175248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520" y="370296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75248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1680" y="370296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520" y="3702960"/>
            <a:ext cx="81532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520" y="3702960"/>
            <a:ext cx="81532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370296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1680" y="370296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262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0400" y="1752480"/>
            <a:ext cx="262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46920" y="1752480"/>
            <a:ext cx="262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520" y="3702960"/>
            <a:ext cx="262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0400" y="3702960"/>
            <a:ext cx="262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46920" y="3702960"/>
            <a:ext cx="262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70296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1680" y="370296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752480"/>
            <a:ext cx="397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702960"/>
            <a:ext cx="81532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75248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9044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6200" indent="-22860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5600" indent="-22860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14640" indent="-22860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14640" indent="-22860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14640" indent="-228600"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76673" b="0"/>
          <a:stretch/>
        </p:blipFill>
        <p:spPr>
          <a:xfrm>
            <a:off x="0" y="3368520"/>
            <a:ext cx="2133720" cy="34880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3276720" y="6021360"/>
            <a:ext cx="1079280" cy="6732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1908000" y="6237360"/>
            <a:ext cx="1151280" cy="46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99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rcRect l="0" t="0" r="76673" b="0"/>
          <a:stretch/>
        </p:blipFill>
        <p:spPr>
          <a:xfrm>
            <a:off x="0" y="3368520"/>
            <a:ext cx="2133720" cy="348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comenius.assistants@britishcouncil.org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lobalgateway.org/isa" TargetMode="External"/><Relationship Id="rId2" Type="http://schemas.openxmlformats.org/officeDocument/2006/relationships/hyperlink" Target="mailto:isaschemeenquiries@britishcouncil.org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twinning.net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comenius@britishcouncil.org" TargetMode="Externa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99ff"/>
                </a:solidFill>
                <a:uFillTx/>
                <a:latin typeface="Arial"/>
              </a:rPr>
              <a:t>Lifelong Learning Programme</a:t>
            </a:r>
            <a:endParaRPr b="1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949" t="0" r="0" b="0"/>
          <a:stretch/>
        </p:blipFill>
        <p:spPr>
          <a:xfrm>
            <a:off x="1692360" y="1557360"/>
            <a:ext cx="5904000" cy="39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280" y="-243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99ff"/>
                </a:solidFill>
                <a:uFillTx/>
                <a:latin typeface="Arial"/>
              </a:rPr>
              <a:t>Management of lump sum funding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353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finition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– trip abroad to an approved partner or to an event or meeting relevant to the project activ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ho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–  Staff or representatives of the participating organisation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Staff or School education staff in participating regions who are not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working in one of the participating organisation or schools – if linked to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project activities and with prior written agreement from NA 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Persons accompanying persons with special need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areful and timely planning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on how to achieve the minimum number of mobilities applied for is crucial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e.g. who will travel; when; estimated travel and accommodation costs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articipants MUST retain copies of travel tickets and or boarding pa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articipants MUST ensure that Certificates of attendance are issued to them by host institution – we can provide a templ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ravel tickets/boarding passes along with Certificates of attendance act as 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evidence of trave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nd might be asked for if you are selected for 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sk / on the spot check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5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352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spcAft>
                <a:spcPts val="9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ny </a:t>
            </a:r>
            <a:r>
              <a:rPr b="1" i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pare funding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remaining after mobilities have been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udgeted for can be used to cover any other project related cos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95600" indent="-228600">
              <a:spcBef>
                <a:spcPts val="675"/>
              </a:spcBef>
              <a:buClr>
                <a:srgbClr val="33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Communication Co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95600" indent="-228600">
              <a:spcBef>
                <a:spcPts val="675"/>
              </a:spcBef>
              <a:buClr>
                <a:srgbClr val="33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Consum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95600" indent="-228600">
              <a:spcBef>
                <a:spcPts val="675"/>
              </a:spcBef>
              <a:buClr>
                <a:srgbClr val="33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Software and Hard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95600" indent="-228600">
              <a:spcBef>
                <a:spcPts val="675"/>
              </a:spcBef>
              <a:buClr>
                <a:srgbClr val="33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Supply cover for teachers attending meeti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95600" indent="-228600">
              <a:spcBef>
                <a:spcPts val="675"/>
              </a:spcBef>
              <a:buClr>
                <a:srgbClr val="33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Travel costs for associated meeti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spcAft>
                <a:spcPts val="9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e use of spare funding does not need to be declared as long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s the minimum number of mobilities is achieve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spcAft>
                <a:spcPts val="9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articipating institutions should also ensure they comply with the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equirements laid down within their institution, or by their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arent/governing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ody for the accounting of partnership expendi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99ff"/>
                </a:solidFill>
                <a:uFillTx/>
                <a:latin typeface="Arial"/>
              </a:rPr>
              <a:t>Management of lump sum funding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Management of additional costs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bcontracting – up to 30% of overall project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quipment – at depreciated rate and limited to 10% of overall project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ther costs –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wn contribution – if grant claim is over €25,000 then must co-finance up to 25% of non-mobility co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ssible to transfer between these budget headings (10%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Management of additional costs</a:t>
            </a: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br>
              <a:rPr sz="2800"/>
            </a:b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125360"/>
            <a:ext cx="81532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ligible expenditure must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e incurred by the partnershi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relate to activities involving countries that are eligible to participate in the program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must be connected with the project (i.e. listed in activity pla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must be identifiable, verifiable and necessary to achieve the aims of the projec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e reasonable and justified – in accordance with sounds financial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e actually incurred by the partnership and be recorded in their accou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n-eligible expenditur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taff costs and indirect costs (overhead costs/internet/general office suppli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osts of opening bank accounts, exchange losses, VAT (unless the applicant is unable to recover it), bank transfer cos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99ff"/>
                </a:solidFill>
                <a:uFillTx/>
                <a:latin typeface="Arial"/>
              </a:rPr>
              <a:t>Reporting Process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96472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Project reporting documents will be published on our </a:t>
            </a: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website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ff3300"/>
                </a:solidFill>
                <a:uFillTx/>
                <a:latin typeface="Arial"/>
              </a:rPr>
              <a:t>PROGRESS report due 30 June 2010</a:t>
            </a:r>
            <a:r>
              <a:rPr b="1" lang="en-GB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(Mid point of the project life time; used to determine how partnerships are going and arrange support if needed)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ff3300"/>
                </a:solidFill>
                <a:uFillTx/>
                <a:latin typeface="Arial"/>
              </a:rPr>
              <a:t>FINAL REPORT due 30 September 2011 </a:t>
            </a: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(End of contractual period; used to determine final grant awar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Reports must be in English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Final detailed statement of the eligible costs actually incurr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The qualitative and quantitative inform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A full summary statement of the actual receipts and expenditure of the a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Reports must be completed to an acceptable standard; they will be sent back to you if the quality is po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You will receive a full 20% second instalment if: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All activities listed have been satisfactorily completed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inimum number of mobilities carried out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Sufficient proof of all expenditure provid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A reduction of grant will occur when: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Reported activities, mobilities and outcomes do NOT correspond to those presented in the 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application 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form. The final grant will be zero and the grant holder will be required to repay the first 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instalment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The required minimum number of eligible mobilities have NOT been carried out – the grant will be 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reduced according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Reported costs do not fulfil the eligibility criteria. NA will ignore ineligible cos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Reported costs are lower than expected. NA will base its final grant amount on actual expenditure.</a:t>
            </a:r>
            <a:r>
              <a:rPr b="0" lang="en-GB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99ff"/>
                </a:solidFill>
                <a:uFillTx/>
                <a:latin typeface="Arial"/>
              </a:rPr>
              <a:t>Monitoring and Evaluation – Checks and Audits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907560"/>
            <a:ext cx="8153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sk Checks –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6200" indent="-22860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e submission by you to the British Council of evidence of the mobilities that you have undertaken and the expenditure you have incurred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6200" indent="-22860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nal report stage;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n-the-Spot Checks –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6200" indent="-22860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arried out ANY time during the life of your partnership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6200" indent="-22860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ill involve a visit to your institution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6200" indent="-22860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e purpose of the visit will be to check that mobilities have taken place and current expenditure is eligible and consistent with your work plan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ther opportunities</a:t>
            </a:r>
            <a:endParaRPr b="1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This session will provide you with information 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ther opportunities under Comenius: IST; Comenius Assistants; Comenius School Partnership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SA and its benef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Twin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99ff"/>
                </a:solidFill>
                <a:uFillTx/>
                <a:latin typeface="Arial"/>
              </a:rPr>
              <a:t>Activit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99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tructured Training Courses (language or non-langu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99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Job-shadowing an European colleag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99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uropean conference or semin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99ff"/>
                </a:solidFill>
                <a:uFillTx/>
                <a:latin typeface="Arial"/>
              </a:rPr>
              <a:t>Who’s Eligibl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99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each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99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chool Staf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99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ducational Advisors (LE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99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ducational Expe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99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rain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0"/>
            <a:ext cx="82296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Comenius In Service Training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Comenius multilateral school partnerships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142120" cy="55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volve at least 3 schools from 3 different count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re collaborative curriculum- or issue-based, i.e. are pupil- or teacher-based, or a combin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ver any theme such as citizenship, environment, stories, crafts or intercultural edu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cus on learning processes but often result in end products and outcomes, teaching materials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ry to include MFL and CLIL where possibl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upport staff travel for e.g. project meetings, teacher exchanges, etc. but can also include pup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Comenius bilateral school partnerships with a language focus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im to improve pupils’ motivation and capacity to communicate in foreign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clude a reciprocal 10-day exchange for face-to-face project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volve at least 10 students aged 12 and upw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und escorts on the ratio of 1 per 5 pup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volve collaborative cross-curricular work before, during and after the exchanges resulting in a jointly produced end produc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upport 20-40 hours’ language tuition if target language is not taught in scho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5328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COMENIUS REGIO PARTNERSHIPS</a:t>
            </a:r>
            <a:br>
              <a:rPr sz="2400"/>
            </a:br>
            <a:r>
              <a:rPr b="1" lang="en-US" sz="2400" spc="-1" strike="noStrike" u="sng">
                <a:solidFill>
                  <a:srgbClr val="3399ff"/>
                </a:solidFill>
                <a:uFillTx/>
                <a:latin typeface="Arial"/>
              </a:rPr>
              <a:t>Overall objectives: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o understand your contractual obligations to the British Council vis-à-vis your partnersh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o better understand the financial aspects to project 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earn about eTwinning – IT communication to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o share practical experience, with other coordinators, of how to manage your partnersh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o be made aware of practical ways to disseminate and exploit the results of your partnersh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o be made aware of other Comenius activities, and other British Council schools programmes that can enhance your partnershi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Arial"/>
                <a:ea typeface="Arial Unicode MS"/>
              </a:rPr>
              <a:t>Comenius Assistants</a:t>
            </a:r>
            <a:endParaRPr b="1" lang="en-US" sz="30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-541440" y="836280"/>
            <a:ext cx="9361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41360" indent="-44280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pen to intending and trainee teachers from across Europe from 30 European count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41360" indent="-44280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ims to work across the curriculum to provide a FREE cultural resource to the scho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41360" indent="-44280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3-45 weeks/12-16 contact hours per week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41360" indent="-44280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t secondary level, language </a:t>
            </a: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must not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be taught on curricul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41360" indent="-44280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p to 3 schools can share (cluster application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41360" indent="-44280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dds value and complements existing Comenius projects within the scho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41360" indent="-44280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399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tact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comenius.assistants@britishcouncil.org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41360"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860560" y="4427640"/>
          <a:ext cx="2357280" cy="517320"/>
        </p:xfrm>
        <a:graphic>
          <a:graphicData uri="http://schemas.openxmlformats.org/drawingml/2006/table">
            <a:tbl>
              <a:tblPr/>
              <a:tblGrid>
                <a:gridCol w="2046240"/>
                <a:gridCol w="311040"/>
              </a:tblGrid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906800" y="4437000"/>
          <a:ext cx="301680" cy="365040"/>
        </p:xfrm>
        <a:graphic>
          <a:graphicData uri="http://schemas.openxmlformats.org/drawingml/2006/table">
            <a:tbl>
              <a:tblPr/>
              <a:tblGrid>
                <a:gridCol w="301680"/>
              </a:tblGrid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016080" y="4548240"/>
            <a:ext cx="152640" cy="9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3016080" y="1913040"/>
            <a:ext cx="9720" cy="66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5062680" y="4473720"/>
            <a:ext cx="9360" cy="1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British Council Sans"/>
              </a:rPr>
              <a:t>International School Award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368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3399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ccreditation for successful practice in curriculum-based international work in sch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3399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ver 1200 UK schools accredited since 199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3399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arget: all schools involved in international activity by 201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3399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unded by DCS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851280" y="1125360"/>
          <a:ext cx="5041800" cy="4040280"/>
        </p:xfrm>
        <a:graphic>
          <a:graphicData uri="http://schemas.openxmlformats.org/drawingml/2006/table">
            <a:tbl>
              <a:tblPr/>
              <a:tblGrid>
                <a:gridCol w="2449440"/>
                <a:gridCol w="2592360"/>
              </a:tblGrid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 </a:t>
                      </a:r>
                      <a:r>
                        <a:rPr b="1" lang="en-US" sz="16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Foundation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troduc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ternationali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or schools beginning international 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No deadli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. </a:t>
                      </a:r>
                      <a:r>
                        <a:rPr b="1" lang="en-US" sz="16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Intermediat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velop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ternationali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or schools that are beginning to work with an international partner sch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no deadli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. </a:t>
                      </a:r>
                      <a:r>
                        <a:rPr b="1" lang="en-US" sz="16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Full Aw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or schools that have developed an integrated international eth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adline for applications: Dec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400" spc="-1" strike="noStrike">
                <a:solidFill>
                  <a:srgbClr val="3399ff"/>
                </a:solidFill>
                <a:latin typeface="British Council Sans"/>
              </a:rPr>
              <a:t>International School Award</a:t>
            </a:r>
            <a:endParaRPr b="1" lang="en-US" sz="3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For more information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globalgateway.org/isa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isaschemeenquiries@britishcouncil.or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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020 7389 441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2486160" cy="16700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31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5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Using eTwinning to enhance your Comenius project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003640" y="1484280"/>
            <a:ext cx="251316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What is eTwinning?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7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0880" indent="-190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trand of the European Commission’s Lifelong Learning Programme that allows European schools to engage in collaborative projects using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he internet and I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90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Twinning began in 2005 and became an sub-programme of Comenius in 200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90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oes not offer funding to schools, b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ovides tools and support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to make project work possi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90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32 European Countries; over 63,000 European teachers; over 6,500 UK teach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90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entrepiece is the eTwinning Portal 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etwinning.net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www.eTwinning.net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ublic homepage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: Information and inspiration for all; you register and login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esktop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: Your personal profile; partner finding tool; register your project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winspace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: Accessible when you register a project; virtual classroom with communication tools and a place to share your work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Where can eTwinning fit into your project?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0880" indent="-190440">
              <a:lnSpc>
                <a:spcPct val="20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s a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mmunication tool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90440">
              <a:lnSpc>
                <a:spcPct val="20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s a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lanning to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90440">
              <a:lnSpc>
                <a:spcPct val="20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s a place to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tore and share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your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90440">
              <a:lnSpc>
                <a:spcPct val="20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s a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ool to disseminate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your work: within your institution; within your partnership; to the local community and wid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COMENIUS PARTNERSHIPS</a:t>
            </a:r>
            <a:br>
              <a:rPr sz="2800"/>
            </a:b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Using the media and dissemination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1483920"/>
            <a:ext cx="835956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99"/>
                </a:solidFill>
                <a:latin typeface="Arial"/>
              </a:rPr>
              <a:t>The aim of this session is to explai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宋体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宋体"/>
              </a:rPr>
              <a:t>How to use a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宋体"/>
              </a:rPr>
              <a:t>press release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宋体"/>
              </a:rPr>
              <a:t>to generate good quality news cover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宋体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宋体"/>
              </a:rPr>
              <a:t>The purpose of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宋体"/>
              </a:rPr>
              <a:t>European Shared Treas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宋体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宋体"/>
              </a:rPr>
              <a:t>How to get the most out of the British Council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宋体"/>
              </a:rPr>
              <a:t>website and newsl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宋体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宋体"/>
              </a:rPr>
              <a:t>How to access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宋体"/>
              </a:rPr>
              <a:t>resources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  <a:ea typeface="宋体"/>
              </a:rPr>
              <a:t> that support project dissemin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British Council Sans"/>
              </a:rPr>
              <a:t>Generating media coverage for your partnership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69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hy has a template press release been developed for Regio Partnership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ocal papers are under time pressure and need to fill their p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ress releases are designed to be easy to re-use by busy journalis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press release gives you control of the story of your projec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ritish Council and Comenius standard messaging is already includ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6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British Council employ a press officer responsible for schools. Contact them on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comenius@britishcouncil.org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40000" y="0"/>
            <a:ext cx="6516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European Shared Treasure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uropean database to capture project activities; i</a:t>
            </a:r>
            <a:r>
              <a:rPr b="0" lang="it-IT" sz="2000" spc="-1" strike="noStrike">
                <a:solidFill>
                  <a:srgbClr val="000099"/>
                </a:solidFill>
                <a:latin typeface="Arial"/>
              </a:rPr>
              <a:t>mprove visibility &amp; access project resul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A massive platform for disseminating your project outco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A source of inspi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A contractual responsibility for all 2009 Partnershi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942920" cy="7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COMENIUS REGIO PARTNERSHIP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tractual issues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136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This session will cov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basic cycle of your partnersh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financial rules of your partnership / Management of your lump sum and additional fu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reporting process and other oblig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ow your partnership will be monitored (Qualitative and Quantitativ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British Council Sans"/>
              </a:rPr>
              <a:t>The British Council and Project Dissemination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569080" cy="47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Comenius website had 66,000 visitors last ye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website promotes Comenius to new audiences as well as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upporting ongoing Comenius activ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menius eNews is our newsletter. It goes out to all current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grantholders, and many representatives from local authorities, as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ell as anyone who chooses to subscrib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ase studies are a powerful tool for illustrating the benefits of the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rogram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e use case studies on our website, at regional and national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vents, and in the p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British Council Sans"/>
              </a:rPr>
              <a:t>The British Council and Project Dissemination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74560" y="1197000"/>
            <a:ext cx="8569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hat issues are we especially interested in for 2010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mploy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mmunity Cohes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anguag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articipation of underrepresented grou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-243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British Council Sans"/>
              </a:rPr>
              <a:t>More tips on Project Dissemination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569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nderstand who your audiences are, and what they will be interested 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arents and the local community are an important audi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isseminate effectively within your scho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QaS Quality and Sustainability Pro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http://www.programkontoret.se/sv/QaS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uropean Commission websi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http://ec.europa.eu/dgs/education_culture/valorisation/index_en.ht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COMENIUS PARTNERSHIPS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uestions and Answ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153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What is the life cycle of a partnership?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13040" y="747000"/>
            <a:ext cx="8913240" cy="4708800"/>
            <a:chOff x="113040" y="747000"/>
            <a:chExt cx="8913240" cy="4708800"/>
          </a:xfrm>
        </p:grpSpPr>
        <p:sp>
          <p:nvSpPr>
            <p:cNvPr id="94" name="_s741381"/>
            <p:cNvSpPr/>
            <p:nvPr/>
          </p:nvSpPr>
          <p:spPr>
            <a:xfrm flipH="1" flipV="1">
              <a:off x="2991960" y="2268000"/>
              <a:ext cx="791640" cy="4183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_s741382"/>
            <p:cNvSpPr/>
            <p:nvPr/>
          </p:nvSpPr>
          <p:spPr>
            <a:xfrm>
              <a:off x="1091880" y="1264320"/>
              <a:ext cx="2229120" cy="11775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8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Submission o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Final Re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_s741383"/>
            <p:cNvSpPr/>
            <p:nvPr/>
          </p:nvSpPr>
          <p:spPr>
            <a:xfrm flipH="1">
              <a:off x="2338560" y="3100320"/>
              <a:ext cx="11203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_s741384"/>
            <p:cNvSpPr/>
            <p:nvPr/>
          </p:nvSpPr>
          <p:spPr>
            <a:xfrm>
              <a:off x="113040" y="2512440"/>
              <a:ext cx="2229120" cy="11775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7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Submission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Progres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e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_s741385"/>
            <p:cNvSpPr/>
            <p:nvPr/>
          </p:nvSpPr>
          <p:spPr>
            <a:xfrm flipH="1">
              <a:off x="2991960" y="3514320"/>
              <a:ext cx="791640" cy="4183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_s741386"/>
            <p:cNvSpPr/>
            <p:nvPr/>
          </p:nvSpPr>
          <p:spPr>
            <a:xfrm>
              <a:off x="1091880" y="3760920"/>
              <a:ext cx="2229120" cy="11775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6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Ongoing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Monitor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of Activ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_s741387"/>
            <p:cNvSpPr/>
            <p:nvPr/>
          </p:nvSpPr>
          <p:spPr>
            <a:xfrm>
              <a:off x="4567680" y="3686040"/>
              <a:ext cx="0" cy="5918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_s741388"/>
            <p:cNvSpPr/>
            <p:nvPr/>
          </p:nvSpPr>
          <p:spPr>
            <a:xfrm>
              <a:off x="3454560" y="4278240"/>
              <a:ext cx="2229120" cy="11775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egio Partner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Activ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_s741389"/>
            <p:cNvSpPr/>
            <p:nvPr/>
          </p:nvSpPr>
          <p:spPr>
            <a:xfrm>
              <a:off x="5351400" y="3514320"/>
              <a:ext cx="791640" cy="4183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_s741390"/>
            <p:cNvSpPr/>
            <p:nvPr/>
          </p:nvSpPr>
          <p:spPr>
            <a:xfrm>
              <a:off x="5818320" y="3760920"/>
              <a:ext cx="2229120" cy="11775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4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Grant Agre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Pay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_s741391"/>
            <p:cNvSpPr/>
            <p:nvPr/>
          </p:nvSpPr>
          <p:spPr>
            <a:xfrm>
              <a:off x="5676480" y="3100320"/>
              <a:ext cx="11203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_s741392"/>
            <p:cNvSpPr/>
            <p:nvPr/>
          </p:nvSpPr>
          <p:spPr>
            <a:xfrm>
              <a:off x="6797160" y="2512440"/>
              <a:ext cx="2229120" cy="117756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Selec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esul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_s741393"/>
            <p:cNvSpPr/>
            <p:nvPr/>
          </p:nvSpPr>
          <p:spPr>
            <a:xfrm flipV="1">
              <a:off x="5351400" y="2268000"/>
              <a:ext cx="791640" cy="4183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_s741394"/>
            <p:cNvSpPr/>
            <p:nvPr/>
          </p:nvSpPr>
          <p:spPr>
            <a:xfrm>
              <a:off x="5818320" y="1264320"/>
              <a:ext cx="2229120" cy="11775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Eligibility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Quality Chec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_s741395"/>
            <p:cNvSpPr/>
            <p:nvPr/>
          </p:nvSpPr>
          <p:spPr>
            <a:xfrm flipV="1">
              <a:off x="4567680" y="1922400"/>
              <a:ext cx="0" cy="5918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741396"/>
            <p:cNvSpPr/>
            <p:nvPr/>
          </p:nvSpPr>
          <p:spPr>
            <a:xfrm>
              <a:off x="3454560" y="747000"/>
              <a:ext cx="2229120" cy="117756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Submi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_s741397"/>
            <p:cNvSpPr/>
            <p:nvPr/>
          </p:nvSpPr>
          <p:spPr>
            <a:xfrm>
              <a:off x="3454560" y="2514600"/>
              <a:ext cx="2229120" cy="117756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Lif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Cy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Contractual requirements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1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rant is paid to the Coordinator – who then has responsibility to manage this gra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ordinator will manage the partnership – may decide to draw up contracts between internal partn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ar in mind holidays/time zones/school days and exa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Have a strategy for managing conflicts or misunderstandings/how do you deal with partners who do not respond to emails/do not fulfil project promis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ce Maje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nflict of interest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Ownership of results - Intellectual property right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spen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ward of contra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rmination of contra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Managing a Comenius partnership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se the activity plan as a working project to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ear in mind holidays/time zones/school days and ex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ave a strategy for managing conflicts or misunderstandings/how do you deal with partners who do not respond to emails/do not fulfil project promis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nsure full integration and involvement of all partners – do not exclu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nsure strong collaboration and communication within the partnersh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gree on the method of communic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Risks and considerations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Withdrawal of a part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Unclear division of tas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Lack of time, lack of resour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ultural differen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Language and communication probl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ifferences in academic ye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olitical chang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light cancel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hild protection issu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taff chan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99ff"/>
                </a:solidFill>
                <a:uFillTx/>
                <a:latin typeface="Arial"/>
              </a:rPr>
              <a:t>Financial management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Grant Agreement sets out the financial rules and </a:t>
            </a:r>
            <a:r>
              <a:rPr b="0" i="1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must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be carefully re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nsure you read accompanying guidance carefully –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nnex IV: Rules for calculation of the final grant amou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Grants are paid in </a:t>
            </a:r>
            <a:r>
              <a:rPr b="1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Euros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, in two instalment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First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80%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 payment paid within 45 days of receipt of signed Grant Agree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Final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20%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 payment paid within 45 days of receipt and approval of the Final Repor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6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153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99ff"/>
                </a:solidFill>
                <a:uFillTx/>
                <a:latin typeface="Arial"/>
              </a:rPr>
              <a:t>Management of lump sum funding</a:t>
            </a:r>
            <a:endParaRPr b="1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29840" y="764640"/>
            <a:ext cx="7813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75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Grant payments relate to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completed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mobility activity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90440">
              <a:lnSpc>
                <a:spcPct val="80000"/>
              </a:lnSpc>
              <a:spcBef>
                <a:spcPts val="675"/>
              </a:spcBef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m 4 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4 mobilities are successfully carried out over the 2 year period)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€4,000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90440">
              <a:lnSpc>
                <a:spcPct val="80000"/>
              </a:lnSpc>
              <a:spcBef>
                <a:spcPts val="675"/>
              </a:spcBef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m 8 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8 mobilities are successfully carried out over the 2 year period)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€8,0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90440">
              <a:lnSpc>
                <a:spcPct val="80000"/>
              </a:lnSpc>
              <a:spcBef>
                <a:spcPts val="675"/>
              </a:spcBef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m 12 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2 mobilities are successfully carried out over the 2 year period)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€10,000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90440">
              <a:lnSpc>
                <a:spcPct val="80000"/>
              </a:lnSpc>
              <a:spcBef>
                <a:spcPts val="675"/>
              </a:spcBef>
              <a:buClr>
                <a:srgbClr val="00009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m 24 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4 mobilities are successfully carried out over the 2 year period)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€20,0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8:32:24Z</dcterms:created>
  <dc:creator>JOdisseos-Nilsson</dc:creator>
  <dc:description/>
  <dc:language>en-US</dc:language>
  <cp:lastModifiedBy>The British Council</cp:lastModifiedBy>
  <cp:lastPrinted>2004-01-23T16:13:26Z</cp:lastPrinted>
  <dcterms:modified xsi:type="dcterms:W3CDTF">2009-10-01T12:54:12Z</dcterms:modified>
  <cp:revision>114</cp:revision>
  <dc:subject/>
  <dc:title>COMENIUS MONITORING, EVALUATION AND DISSEMINATION MEETING</dc:title>
</cp:coreProperties>
</file>